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PlaceHolder 6"/>
          <p:cNvSpPr>
            <a:spLocks noGrp="1"/>
          </p:cNvSpPr>
          <p:nvPr>
            <p:ph type="sldNum" idx="7"/>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F1A3-CC6A-4585-A916-6FB2331BD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71C3-7C4C-4548-A053-843E37D922E8}" type="slidenum">
              <a:rPr b="0"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6646E7-E46E-4166-A35A-7E9B271450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BBCE5C-0987-4B7C-825A-55F88F0C4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2F5B8A-879F-4094-8900-C7FEAAE18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7FE54A-A357-4B18-A567-8C8902F2F6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E0621F-133D-4C75-9307-B6782ED8E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3A4E8F-9530-4080-83BA-61308F51B0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3620D9-06CC-4EC3-8503-C3A7D9C9FA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72DBCE-D7E5-4F24-B61F-CE5C31667B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6327E3-B0EA-45A6-A615-7407004408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F63427-8DE1-493F-B4E9-B2A5B079CF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D80F4F-72B7-40D0-AFE1-D23672C5AF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5DF547-CADF-44F9-822E-E750A6AF2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D6876C-1655-4B29-A327-F2371E58B9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6B16F2-EC0A-4D0A-AE12-5707A0A7E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38031F-8D8D-4F01-9346-95967B8748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FFEB25-CE72-4F44-A401-99436ED8D8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007625B-7AB6-4086-B9E1-896B5C89C7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5EA8AF-CB93-4EAF-872E-B157397D26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DC495C-CD10-4DBB-A71A-A7DEC85982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FEB8BD-99B1-4822-BFDB-B4A0E60FE8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812B14-D4AD-484E-AC80-B130D0296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C27DA-5DA6-4EE8-BD97-67BA36005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458015-0F7E-4846-B7EF-914C97D0E8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87B5E-D52A-49C3-9CA2-7DA6807E3B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7477FD1-51BF-4DDA-B033-42766FD6F10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earson_WebBar_Top_Blue_RGB"/>
          <p:cNvPicPr/>
          <p:nvPr/>
        </p:nvPicPr>
        <p:blipFill>
          <a:blip r:embed="rId2"/>
          <a:stretch/>
        </p:blipFill>
        <p:spPr>
          <a:xfrm>
            <a:off x="0" y="0"/>
            <a:ext cx="9144000" cy="419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3"/>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5"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1231BDE-B1CE-431C-9717-A6B9DAA3905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9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2060A27-9BCC-4E5A-A121-60FE214D0FC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91" name="PlaceHolder 1"/>
          <p:cNvSpPr>
            <a:spLocks noGrp="1"/>
          </p:cNvSpPr>
          <p:nvPr>
            <p:ph/>
          </p:nvPr>
        </p:nvSpPr>
        <p:spPr>
          <a:xfrm>
            <a:off x="912600" y="2590560"/>
            <a:ext cx="3354120" cy="33541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Marketplace</a:t>
            </a:r>
            <a:endParaRPr b="0" lang="en-US" sz="4400" spc="-1" strike="noStrike">
              <a:solidFill>
                <a:srgbClr val="000000"/>
              </a:solidFill>
              <a:latin typeface="Times New Roman"/>
            </a:endParaRPr>
          </a:p>
        </p:txBody>
      </p:sp>
      <p:sp>
        <p:nvSpPr>
          <p:cNvPr id="92" name="Rectangle 3"/>
          <p:cNvSpPr/>
          <p:nvPr/>
        </p:nvSpPr>
        <p:spPr>
          <a:xfrm>
            <a:off x="801720" y="457200"/>
            <a:ext cx="7542360" cy="17524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3"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4"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5"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6"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7"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pic>
        <p:nvPicPr>
          <p:cNvPr id="98"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4759AB9-DC90-4646-BC0F-74979E6E546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3 - Specific goods that must be weighed or measured to determine pr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are weighed or measured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917F8CC-AB5A-4C0A-9CE1-47B472735D3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4 - Specific goods taken on approval (or sale with right to retur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passes when sale is accepted (by notification to seller, passage of reasonable time, or treating goods as your ow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B913D07-A2B2-4C6E-B46F-E4DA888DF55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5 - When goods have not yet been made or where they have been selected from a sample or floor mod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have been created and/or unconditionally committed to the transaction with assent of buyer; assent can be implied</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C598CC7-0842-4490-8469-A0074A7C49A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following terms related to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 that seller delivers good title to goods to purcha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o deliver quiet possession of go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hat goods be free of any charge or encumbran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BB37528-5C13-4963-A04D-06A48575685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for goods bought by description or sampl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ods must match description or samp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yer may refuse delivery if they don’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related to fitness and quality of goods sold by description (i.e., all mass-produced goods)</a:t>
            </a:r>
            <a:endParaRPr b="0" lang="en-US" sz="32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6850C1B-EAB0-4F28-969F-8085E42A210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of merchantable qua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from hidden defects that make goods unusable or interfere with effective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suitable for purpose if purchaser relies on recommendation of sell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E156F22-8948-4B14-BD4A-FE840D5BBE3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ers may attempt to override implied conditions through limited warranties or exemption clau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umer transactions, sellers often prevented from contracting out by statu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tion clauses usually enforced in commercial transactions unless un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2811449-33CF-4C11-84F9-A87C1ED017C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ther Implied Term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implies other terms – 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purchase price stated, reasonable price is impli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date stated, payment to be made at reasonable time (usually time of delive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ghts to recover good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oppage in </a:t>
            </a:r>
            <a:r>
              <a:rPr b="0" i="1" lang="en-CA" sz="2400" spc="-1" strike="noStrike">
                <a:solidFill>
                  <a:srgbClr val="000000"/>
                </a:solidFill>
                <a:latin typeface="Times New Roman"/>
              </a:rPr>
              <a:t>transitu</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visions under </a:t>
            </a:r>
            <a:r>
              <a:rPr b="0" i="1" lang="en-CA" sz="2400" spc="-1" strike="noStrike">
                <a:solidFill>
                  <a:srgbClr val="000000"/>
                </a:solidFill>
                <a:latin typeface="Times New Roman"/>
              </a:rPr>
              <a:t>Bankruptcy and Insolvency 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74F5F97-9C2E-42A5-94E7-1103D189EC7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gislation varies by provinc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Quality and fitnes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Trade (or Business) Practices Ac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hibits misleading and deceptive practi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ols unconscionable transaction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kes false or misleading statements conditions of contract; may sue for breach</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a number of potential remedie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F3B3FFD-E94D-4BDA-9526-8801B2F054D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or-to-Door Sa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cooling-off perio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ecutory contrac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s to be performed in fu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d to be in writing</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365D62A-98FB-421E-B85F-332771D262C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function and form of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duties of sellers and buyer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nature and purpose of consumer protection legislation</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whether proposed changes will solve current problem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7F61D2A-2024-49DD-9735-C584ABEA18E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ferral sell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ing a discount if purchaser provides names of potential buyers to seller is controll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livery of unsolicited goo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sponsibility is severely restric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F73013D-9BC8-4665-9F3D-A00A13BC3C6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 of specific business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rue cost of borrowing must be disclose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tual rate and costs must be disclose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state total amount to be pai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urchase of income tax returns and payday loans are restric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 reporting/debt collection are regula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other businesses subject to consumer protection legislati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8345FE1-A08A-483A-A5A0-B0782AA3C41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er Protection Legislation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vernment agencies are set up to investigate and resolve dis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ssist consumers to obtain reme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mpose fines, revoke license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take civil action for damages/inj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volve quasi-criminal prosecu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Charter of Rights</a:t>
            </a:r>
            <a:r>
              <a:rPr b="0" lang="en-CA" sz="2400" spc="-1" strike="noStrike">
                <a:solidFill>
                  <a:srgbClr val="000000"/>
                </a:solidFill>
                <a:latin typeface="Times New Roman"/>
              </a:rPr>
              <a:t> protections a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43CB550-5960-462C-95E6-9F65683E587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mprehensive Act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provinces (Ontario and B.C.) have comprehensive consumer protection a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Example:  Ontario Consumer Protection Act</a:t>
            </a:r>
            <a:r>
              <a:rPr b="0" lang="en-CA" sz="2800" spc="-1" strike="noStrike">
                <a:solidFill>
                  <a:srgbClr val="000000"/>
                </a:solidFill>
                <a:latin typeface="Times New Roman"/>
              </a:rPr>
              <a:t>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rporates provisions from several acts into 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leases and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es extensive powers to search, seize, make order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regulation of internet consumer trans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76A9889-1963-4FBE-8703-99641BB1AEB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on-Government Agenc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etter Business Burea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sists of and supported by member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empts to weed out unscrupulous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ovides a service to public where they can inquire about specific busin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9CE8958-6A0F-44D5-B98D-A3C59772F65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Competition Ac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urpose “is to maintain and encourage competition in Canada”</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upported by </a:t>
            </a:r>
            <a:r>
              <a:rPr b="0" i="1" lang="en-CA" sz="2800" spc="-1" strike="noStrike">
                <a:solidFill>
                  <a:srgbClr val="000000"/>
                </a:solidFill>
                <a:latin typeface="Times New Roman"/>
              </a:rPr>
              <a:t>Competition Tribunal Act</a:t>
            </a:r>
            <a:r>
              <a:rPr b="0" lang="en-CA" sz="2800" spc="-1" strike="noStrike">
                <a:solidFill>
                  <a:srgbClr val="000000"/>
                </a:solidFill>
                <a:latin typeface="Times New Roman"/>
              </a:rPr>
              <a:t> that created an enforcement bod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s anti-competitive practic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conomic principles usually determine outcomes</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9C54A5B-2FA2-4F92-A33A-42FA34204A7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piracies that unduly lessen competition are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rigging is an indictable offenc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fixing can unduly restrain trad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 selling is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paying a fee to participate in a multilevel organization that isn’t based on the sale of a produc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summary conviction offence</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A8222DF-46A0-48F4-8CD0-54E9DD4CAED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marketing practices prohib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disclosure is required of merchants in many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atory practices are review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 and acquisitions are reviewed to balance the loss of competition against increased business e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1E67A8A-E589-402A-8EE7-6EBD8CF1A48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nsuring a debt will be repaid by providing security of equal or greater value and giving creditor first clai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use either real or personal proper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sonal Property</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 chattels (goo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angible – rights or claims (e.g., shares, cheques)</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78E303C-DBFF-4319-A283-DF96A42BF9B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1219320" y="2057400"/>
            <a:ext cx="6457680" cy="38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1932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uss the role of federal legislation in controlling competition in the marketplac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the forms and purpose of securing transaction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legislation and its purpose in regulating secur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process and objectives of bankruptcy</a:t>
            </a:r>
            <a:endParaRPr b="0" lang="en-US" sz="3200" spc="-1" strike="noStrike">
              <a:solidFill>
                <a:srgbClr val="000000"/>
              </a:solidFill>
              <a:latin typeface="Times New Roman"/>
            </a:endParaRPr>
          </a:p>
        </p:txBody>
      </p:sp>
      <p:sp>
        <p:nvSpPr>
          <p:cNvPr id="10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AD805BE-635E-4B13-BB3C-254E1150558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4F282EB-CE45-478E-8841-23508FBE091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Personal Property Security Ac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controls all secured transactions involving personal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llows any form of personal property to be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have contract creating secured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itle stays with borrower, but rights given to credit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E71B942-A9CD-4A09-868B-B0B03ACFA51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 Agree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 sets out rights and obligations of parties</a:t>
            </a:r>
            <a:endParaRPr b="0" lang="en-US" sz="24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pecifies asset to be used as security</a:t>
            </a:r>
            <a:endParaRPr b="0" lang="en-US" sz="2400" spc="-1" strike="noStrike">
              <a:solidFill>
                <a:srgbClr val="000000"/>
              </a:solidFill>
              <a:latin typeface="Times New Roman"/>
            </a:endParaRPr>
          </a:p>
          <a:p>
            <a:pPr lvl="1" marL="1160640" indent="-354240">
              <a:spcBef>
                <a:spcPts val="499"/>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or has no claim at this poin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450720" indent="-450720">
              <a:spcBef>
                <a:spcPts val="700"/>
              </a:spcBef>
              <a:buClr>
                <a:srgbClr val="000000"/>
              </a:buClr>
              <a:buFont typeface="Times New Roman"/>
              <a:buAutoNum type="arabicParenR" startAt="2"/>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ach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under contract given to debtor, securing creditor’s claim against asset</a:t>
            </a:r>
            <a:endParaRPr b="0" lang="en-US" sz="2400" spc="-1" strike="noStrike">
              <a:solidFill>
                <a:srgbClr val="000000"/>
              </a:solidFill>
              <a:latin typeface="Times New Roman"/>
            </a:endParaRPr>
          </a:p>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43FE0BA-D5F2-4B8B-A7ED-449D9308DC6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531720" indent="-531720">
              <a:spcBef>
                <a:spcPts val="799"/>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fection</a:t>
            </a:r>
            <a:endParaRPr b="0" lang="en-US" sz="32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imarily accomplished through registration (Registry created for each province)</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ives creditor priority against subsequent holders or claimants</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le form with appropriate registry</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n also perfect by taking possession of property</a:t>
            </a:r>
            <a:endParaRPr b="0" lang="en-US" sz="2800" spc="-1" strike="noStrike">
              <a:solidFill>
                <a:srgbClr val="000000"/>
              </a:solidFill>
              <a:latin typeface="Times New Roman"/>
            </a:endParaRPr>
          </a:p>
          <a:p>
            <a:pPr marL="531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8A8153D-FB23-452B-8C65-D149FE7F7C1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ocess to Secure Transaction  </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762120" y="2666880"/>
            <a:ext cx="7634160" cy="24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444AFE0-5D45-4851-874B-65681FFA42F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Default</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reditor has right to obtain and resell property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happens through creditor, his/her employees, or private baili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force or violence may be u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need for court order if contract gives right to repossess (unless property is not acce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9F7A2B6-06A9-46D1-864C-5BBC55340A8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 may be sold to recover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one with an interest (including debtor) must be notified and given opportunity to redeem goods by paying ou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sold, seller must attempt to obtain fair market price</a:t>
            </a:r>
            <a:endParaRPr b="0" lang="en-US" sz="32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1AE8774-7A72-4963-9355-5ADE3DB3380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 </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cess of sale must be “commercially reas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excess, minus costs of process, must be paid to the deb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deficit results, amount still owed by debtor may or may not be recoverable, depending on provi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2946DE8-A384-4901-B348-FE1FBD81937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ilders’ Lie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es suppliers and subcontractors a claim against property if they are no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register a lien against property which can eventually force a sale of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property owner retains a percentage of money owed under contract (holdback), this is available to satisfy claims and remove li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C806628-5FC5-4E6B-AFC6-2D789503AF9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ne person (guarantor) agrees to pay debt to creditor if debtor does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be in writing to be enforceable; often under se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defence the debtor has against the creditor is available to the guarantor (except bankruptcy and infancy)</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F70AF3D-09ED-414F-9EAC-6636818DE1D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guarantor pays, he/she assumes all rights of the creditor to collec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the creditor and debtor change the terms of the original agreement, the guarantor will not be bound by the guarantee unless the guarantor has been informed and has given permission for the ch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C8C7415-397E-41FD-92C8-1C7A70EAB0E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vincial statutes that imply terms into sale of goods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rties can override most provisions of </a:t>
            </a:r>
            <a:r>
              <a:rPr b="0" i="1" lang="en-CA" sz="3200" spc="-1" strike="noStrike">
                <a:solidFill>
                  <a:srgbClr val="000000"/>
                </a:solidFill>
                <a:latin typeface="Times New Roman"/>
              </a:rPr>
              <a: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applies if actual sale (transfer of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be immediate or in the future (conditional sa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CA62427-8A5D-4E4B-B394-C5236C54C21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solvent – unable to pay bills as they become du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nkrupt – debtor’s assets have been transferred to a trustee for distribution to unpaid credi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verned by the federal </a:t>
            </a:r>
            <a:r>
              <a:rPr b="0" i="1" lang="en-CA" sz="2800" spc="-1" strike="noStrike">
                <a:solidFill>
                  <a:srgbClr val="000000"/>
                </a:solidFill>
                <a:latin typeface="Times New Roman"/>
              </a:rPr>
              <a:t>Bankruptcy and Insolvency Ac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serve assets of debtor for benefit of creditor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mote rehabilitation of debtor and give him/her a fresh start</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30B4E1B-6C06-4E36-AFF3-6E1AB253CBB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wo ways to become bank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luntary transfer of assets to truste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ssignment in bankruptcy</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eing forced into bankruptcy by creditor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a receiving order from cour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ust owe at least $1000 and have committed an act of bankruptcy (e.g., insolvent, fraudulent transfer, or fraudulent preferenc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9C40D50-0576-4BFA-9635-3132F912152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rust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nsels deb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serves and looks after the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termines priorities among credi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ls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butes proceeds to credito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F511AC4-658A-404C-98C6-2EF99BAFFD8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cured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rustee must surrender asset to them or pay ou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shortfall, they become unsecured creditors for balance of deb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eferred Creditors – set out in A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uneral expenses, costs of bankruptcy, some taxes, E.I. and W.C.B. premiums, limited amount of employees’ wages and rent</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A939033-3DDA-4717-912B-985E0361310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nsecured Credi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ny amount left ove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 percentage based on their claim vs. total amount of debt</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ften very little left to distribute</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b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assets are exempt from seizure so debtor keeps them </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4BB7632-9149-4122-90CA-D8F03C633D0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ankruptcy Offen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iling to fully disclose information, lying, transferring property to a spouse or friend (fraudulent transf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terfere with being discharged from bankruptc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clude fines up to $10,000 or 3 years in jail</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F81DE4C-2587-4BF6-9F8E-310BB630DB2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cation for discharge automatically made after 9 month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first bankruptcy, will be discharged unless creditors object or bankruptcy offenc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al discharge may be given, requiring further payments</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B87B24B-DF19-4254-AA2B-28EEBDB197C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ce discharged, free of any former indebted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cep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udent loans less than 7 years 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mily maintenance oblig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 sup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t-imposed f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8AE6BF1-EB74-445A-92D2-88283DA1890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egotiate alternate arrange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posal to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personal debt over $75,000, individuals may make a Division Two proposal to creditor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mpanies and larger debtors owing over $75,000 make Division One proposa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y action to seize property is stopped during this process; time may be extended</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7B74531-A75F-4F3A-A3F6-CE1A9C3BEC4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arge corporations may proceed under </a:t>
            </a:r>
            <a:r>
              <a:rPr b="0" i="1" lang="en-CA" sz="3200" spc="-1" strike="noStrike">
                <a:solidFill>
                  <a:srgbClr val="000000"/>
                </a:solidFill>
                <a:latin typeface="Times New Roman"/>
              </a:rPr>
              <a:t>Companies’ Creditors Arrangement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eceivership - Secured creditors often make arrangements in contract to take over management of company if in defaul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5719C34-82BF-4E17-9184-8BF785BD166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movable prope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es not apply to service contra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here service is incidental to transaction, </a:t>
            </a:r>
            <a:r>
              <a:rPr b="0" i="1" lang="en-CA" sz="2800" spc="-1" strike="noStrike">
                <a:solidFill>
                  <a:srgbClr val="000000"/>
                </a:solidFill>
                <a:latin typeface="Times New Roman"/>
              </a:rPr>
              <a:t>Act</a:t>
            </a:r>
            <a:r>
              <a:rPr b="0" lang="en-CA" sz="2800" spc="-1" strike="noStrike">
                <a:solidFill>
                  <a:srgbClr val="000000"/>
                </a:solidFill>
                <a:latin typeface="Times New Roman"/>
              </a:rPr>
              <a:t> appli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6ED56F2-8169-4804-881B-00E58C10EE3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isk follows title under the </a:t>
            </a:r>
            <a:r>
              <a:rPr b="0" i="1" lang="en-CA" sz="3200" spc="-1" strike="noStrike">
                <a:solidFill>
                  <a:srgbClr val="000000"/>
                </a:solidFill>
                <a:latin typeface="Times New Roman"/>
              </a:rPr>
              <a:t>Act, </a:t>
            </a:r>
            <a:r>
              <a:rPr b="0" lang="en-CA" sz="3200" spc="-1" strike="noStrike">
                <a:solidFill>
                  <a:srgbClr val="000000"/>
                </a:solidFill>
                <a:latin typeface="Times New Roman"/>
              </a:rPr>
              <a:t>but </a:t>
            </a:r>
            <a:r>
              <a:rPr b="0" i="1" lang="en-CA" sz="3200" spc="-1" strike="noStrike">
                <a:solidFill>
                  <a:srgbClr val="000000"/>
                </a:solidFill>
                <a:latin typeface="Times New Roman"/>
              </a:rPr>
              <a:t>Act</a:t>
            </a:r>
            <a:r>
              <a:rPr b="0" lang="en-CA" sz="3200" spc="-1" strike="noStrike">
                <a:solidFill>
                  <a:srgbClr val="000000"/>
                </a:solidFill>
                <a:latin typeface="Times New Roman"/>
              </a:rPr>
              <a:t> can be overridden – Exampl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I.F. (Cost-Insurance-Freigh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ndor must arrange transportation and insurance against risk</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B. (Free on board)</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ties specify in contract where title and risk will transfer</a:t>
            </a:r>
            <a:endParaRPr b="0" lang="en-US" sz="2400" spc="-1" strike="noStrike">
              <a:solidFill>
                <a:srgbClr val="000000"/>
              </a:solidFill>
              <a:latin typeface="Times New Roman"/>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DFCA1DC-CECC-4D0F-81D5-5FB25C8F031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xamples (Continued)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D. (Cash on delivery)</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isk and title pass when goods received and paid for</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ill of Lad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be used to control risk and title when a third party transports good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seller names self to receive goods, he/she retains control of goods, but also risk</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A861D68-B6C0-437F-8769-CFFB8247EBF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rmally, transfer of title follows rules set out in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1 - Specific, identified goods in deliverable st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and risk transfer upon contract of sa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yment and delivery may occur lat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BD84D13-BE33-4912-9B60-B8C0F8705E8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2 - Specific, identified goods that require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rk must be done to put goods in deliverable st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work is done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1T04:42:04Z</dcterms:created>
  <dc:creator>Client Name</dc:creator>
  <dc:description/>
  <dc:language>en-US</dc:language>
  <cp:lastModifiedBy>User</cp:lastModifiedBy>
  <dcterms:modified xsi:type="dcterms:W3CDTF">2012-04-24T16:27:02Z</dcterms:modified>
  <cp:revision>170</cp:revision>
  <dc:subject/>
  <dc:title>Slide 1</dc:title>
</cp:coreProperties>
</file>